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A1E-3F65-4E7D-9A99-4C3BCF4E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B42-6C96-49C1-AD6B-D02DF86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328-E5C6-4A39-827D-220017F1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022-904E-4F9D-844B-1A6C80F3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314-0E9F-4016-A01D-8B70FEC9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F23-0078-4ACD-A85A-8296B58A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B14-CFEA-422D-BCB1-07DC6D10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585-CAF5-43F3-9229-C9BBFFE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F59-A511-4D17-9872-77F5544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544-2BFF-4350-9435-41BC105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E9C-009A-4ECA-B220-39B14E7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A6D-2FB0-4CE2-A022-E1B62FC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37C6-03B7-4AF0-BF89-2C0DADF7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7:09:15Z</dcterms:created>
  <dc:creator>Carolyn Spielmann</dc:creator>
  <dc:description/>
  <dc:language>en-US</dc:language>
  <cp:lastModifiedBy>Carolyn Spielmann</cp:lastModifiedBy>
  <dcterms:modified xsi:type="dcterms:W3CDTF">2010-01-11T17:09:26Z</dcterms:modified>
  <cp:revision>1</cp:revision>
  <dc:subject/>
  <dc:title>Comparing Presidents</dc:title>
</cp:coreProperties>
</file>